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8EC6-537C-4501-9555-D90FC3E607F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5D8E-5EA1-4EC9-9371-E04164C7AEF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974B-80B5-4E11-AA4D-56048E67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111-CD4A-42EC-967C-E0F6AF8F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9E902-94C3-47D2-99C1-7281850B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E725B-300D-43DE-8E92-DA0CB6BF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ECBBE-929C-4836-8405-16091162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0C96E-608C-4CA0-B816-3B2A3F5E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4414D-E6CB-4A0E-A1C4-8F6AEC16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A44F5-A7CF-4FCE-A6C7-76F4FB35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E3963-1272-4D36-B45E-F2B60572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1C4DA-D243-496E-B4D8-D22A6C6C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A0429-F584-4FBE-8843-8C9B54C1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4AD2C-1D16-4EF6-B63D-39BB8488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93D-D0DD-4A39-BBD3-2E4987C8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7B752-36D9-4B75-B6CD-A6FC6F95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BCBD0-776B-4946-A961-CA15D42C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71CDC-85E5-4057-AED2-5CDFC258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EF8E3-66BF-418F-AE43-C4428619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67F6A-8C71-4C99-AE0E-2CF4B6EC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C6237-B80C-48F1-AF73-CB79DB89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39E4B-BC69-401F-A7B3-F9E90531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F42D7-A12A-4DA7-8C06-9487EF3B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C3DD2-8D92-4580-A57C-DD672223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4F54D-D5D4-4546-9D9E-F37ED885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387-2757-49F2-B5C3-DEE83530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DD23C-1DA1-4A95-AF37-ABC1227A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2CC0F-459F-4FC7-ACC0-68212614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726E3-ADA6-4C7B-85F9-523B4F43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6F7EA-44A3-42B4-B1E4-6726E846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09C6C-B851-471E-A6E0-0D7F8EC8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0E8C7-A30A-44D0-A312-74B3F356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FF2D5-A6D8-440B-BAB7-26EBF3C2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90491-4B00-4875-A831-C223C5CF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87011-E198-4CE0-A386-CAC2A42D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8ADA3-F26B-4056-BE0E-A43D3C14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D5EC-0C2C-447C-95BC-D261D031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93111-B82C-4C5C-A3F2-BC53CA77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3D2A8-B6EE-4D26-A772-434E3FEA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C58FB-8A4F-45E8-B9C4-26CEBD1F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13E89-2AEF-43CD-880D-E3F5DD0E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C3C23-1C6B-45A7-8D8B-0F37E70C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35E6C-B62E-472B-951C-B3BDAD7A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0215C-A93D-453A-A9AE-A4EBCA3C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5475F-958B-49A6-A4CB-EACAF169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3A61C-4CE6-457C-8E5C-F93BBB22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DF951-79E8-4C50-BD17-BCAC49FE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6A5C-6C79-4F5F-AFDB-A32308AB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8C90C-9D56-4BF2-A9EF-ED487E25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88704-BA41-4030-9841-DC46B405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8FCFB-501F-4072-B25B-09C4B6F3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EC908-EAB6-4436-ABD2-D1190200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0E2CB-6A94-45FC-A61D-2D24E1EA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9D9E1-66A2-45DE-B49D-DF69B1B2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69FE0-1E53-4BDB-9E93-3E9B4FF1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D06B01-6764-4237-8559-FEF60560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67ACB-8BE5-4DAD-890B-DF88F7AC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5F24A-7B0B-48D0-B8BD-E3A5B38B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8BE7-2A0B-4B7A-B962-ADFBCA34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9315F-693A-434D-B01D-D8A957FF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18F38-ABC6-4A5B-8BFF-FF8F3909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AB967-BDE1-4FED-893A-4C6B5B13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24911-57A2-49EA-BCBD-FE2C2D07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21AF4C-EB6C-4AC1-A7E2-B6E5982D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725E7C-0C73-46CB-9AF7-A92BB207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3E57E-3A72-43FB-ABAE-F123DB84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923471-C183-4ECA-BF55-788279EE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67B67-5D40-4506-AF14-C0B99C04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935F26-3920-4344-9988-2398277C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478E-0FD5-4DB6-8580-6972B9A6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B3B7F-D7F2-4CC7-B944-99562947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15128-E654-4F51-9D92-16C7896D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ACB3F-C526-4458-955D-F145BEF4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BB205-7B20-4CE6-A562-6EE5261D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819D66-8700-4E5A-BBC1-2DC80937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FB2AF-72D5-404A-8760-5478F612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4AD89D-954A-481B-971D-6BA89845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A55A7-C26B-41A2-9408-0957B561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4EC166-DA34-4145-B655-5C4FAFCA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2ADDB2-6B89-4FD3-BB2A-DE9D3EB2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325D-84BB-48CD-9254-7FE5EA37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E7C251-A692-4448-9D44-62019E9B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0423E-1A58-4066-8425-181818AB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343B32-E48D-40B6-9AEE-2412F2FA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1277CF-47BD-468D-BA82-3541C941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DC874-05DF-462E-9422-38BC03F3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80EF3-5B5C-4D14-BFAA-5BF493A5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80207-53C7-4FE3-83E3-EBF2FFD5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55184-24BA-42C9-B0A3-C10DCA75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C6DA2-E4F5-4D80-8332-AAF3FF11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4D297-B3D5-49CE-97B7-4B261D2B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BE01-4347-4351-B4E7-A2EA7DE9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6D1207-C5E6-4603-BB03-3EE7BBC3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5733-76AA-47D6-922C-9D9690E5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98C-6A39-485F-ADC8-2E690557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6AAF-E378-46FB-A4C6-AEDC1CF0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F6E3-7100-4F74-8653-906E28A3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DD27-CD4A-47DF-92F9-A7EC40D2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B273-95AD-4DE1-A038-7D6764B5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7DDC-F541-4B33-973F-E549F23D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350F6-F49F-49AE-A944-F0FBE790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F10EA-989E-4357-900D-94353888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9E407-2B70-4881-B0FF-EF960361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91DB0-BB7B-4AD6-88E9-93ECE428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78FCF-1501-4E9E-817C-7D4021C4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3EF-478E-4BF3-8506-EBCE977A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E3241-D487-498F-ACB0-93A6743E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1A48C-A1BA-4974-8673-D355D17A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71056-6D31-4CBB-B6EE-7B455A95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90AC-53CB-4B59-915F-CCEE5CC5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4BBD9-A089-4114-8223-535579AC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0E45-574A-43D7-A2A7-A912C9E9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47A78-6975-4D8E-BC9E-A281972E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D6B64-88B6-4177-8B3C-30F9C493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1B09C-5EF1-4D01-AA59-7A39CE80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51CDB-C0B6-4185-A49A-7FFDB470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930-7E66-4783-8B2E-B75938CC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C9720-9B93-473E-869B-63DE26E6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EE579-B8B3-4EC3-8A19-7108A328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AD461-6288-4CFE-A534-B77BF3E2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69A01-B966-4FEF-A28D-5216E7A7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0A700-E688-48B5-9029-9315688F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93914-9791-4685-BC62-984347F3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F7B77-6280-40B5-BC60-8D53D542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1142-4890-46AA-8901-F74C3E07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E98C-D26A-4FB8-B355-2BBD48D8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2D172-4BA7-4691-A91B-F5C91D22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651-8B93-457B-AFFF-AD90F470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EA182-5706-437E-8A46-286E0EF9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47155-04DD-4046-A86C-8555B345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CCD9D-9FB4-45F4-8091-E79DFC69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A8B53-DFE6-431E-9799-F27277C0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ACFB3-67DC-4B52-98B9-9445EC9C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4BA1A-AA2E-4001-87F8-083B1A7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A67A7-9E0F-4E01-BE0E-B8968A2A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597C4-DC85-46DA-9842-467C83D1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A3873-1E74-4851-AEDA-B28C41A8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73EF4-F97E-4133-BDF4-14FC7916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D82-15C9-4D7F-9C05-0C2480D5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EE774-8928-4D9F-B2DE-7EE0838C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19221-AB7C-4A38-8A3B-0EDE33B0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87DFB-2A92-4840-A1B7-6DE53790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C02B3-DD4C-41BB-8D1F-95CAF25B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3ABD8-2F41-4293-B558-D3B0B647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172BC-11EF-47EC-94E4-6A7D8091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C85F5-3988-494E-8672-21D28E41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E0105-42E2-4B22-8390-79976D9C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A12D7-5C3F-4751-95C0-B3DA400D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2CE33-BCFF-4BF0-8B1B-97D73F2A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CD5-1FEB-4090-B469-ECF3064D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2F403-71DC-4213-AC4C-14D366B9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80BD3-743F-4F15-963E-400C66BC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4A14C-D894-478C-8478-C9A75274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128C8-D8DC-4235-9F20-D957B77E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294B7-1A0F-4177-99DD-6876D160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F1FA7-225C-42EE-90DC-BD02C8DB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D3376-801F-483F-9E92-BDDBFB64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0BC94-0599-46C7-BE93-187D2DCA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5CFE6-A57B-4261-A504-874467B8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A4544-CEF4-4023-ABC7-58AF3D87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597-357D-47B0-9BCB-298E7C87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5B8F5-60D2-48BC-88AC-B90875A4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9AB7B-6469-434C-AE78-507A976C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C0BC6-85A5-46B7-8EB8-D1BAE2D5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65E8E-BA20-4385-9257-35D11BEE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A571C-2276-43A5-AD85-E489DE26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C66FA-AF4F-49CD-A771-82D03947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AE65F-BB9A-48BB-8F38-8DD9E80A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21E74-D3B1-4C74-939A-51B7BE03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73864-700F-4B20-9E54-50B082E8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DC94B-47FA-4B3B-BCE6-E31D633C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845-96A2-478E-A0DB-FA552362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445CD-E3D8-47A5-8A8A-E8F159F1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3A778-E59A-42DE-98C3-3CC7293B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3A635-63CA-4E1F-A304-C2FDD1AD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32744-CB07-4FA0-85A4-9E86E062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F365B-51CF-4C2E-AE08-B7A70277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28B09-EE23-4DF4-9CD2-AA114996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8DE38-9EDF-4D0B-A42B-F5B4F29F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9D34B-AC75-42C2-A5CD-BD22B308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6885F-8BC7-42AD-B15F-A4385561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E2131-1421-43F1-9260-F88D78E9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1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5/06/20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KAP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96FEF1-028D-403D-872E-CB1A6A78253F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397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AC7E-AF82-48F2-A7E5-7E7CC333113F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57AA3B99-0B49-4847-8D06-15797155D062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441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D956-354B-4E7D-AC0C-F59477DB54EC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C3B58323-EBD7-4D13-9BE5-FBAADF226816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485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826A-D81F-4563-995A-C657AC7524E7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4B2DEEC9-765E-408C-B401-18FD1E63CB9D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529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5E98-71C0-489D-9004-6F772AC5BC84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F1FD791C-0F91-4641-98B5-2F78B2CB0E5B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573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9B38-03B6-4B86-A451-78309A53B1D5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FBE17E62-FC5C-44A2-9F08-1BAF530B41C4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617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F583-4B6E-46CB-9E23-1F7A5BCADBB2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Pagina </a:t>
            </a:r>
            <a:fld id="{7CFCB3E8-E21D-44E1-8926-295E89A3805B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45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5/06720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KAP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76CC69-02A4-4881-8FF5-AD39D9D50FD5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89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D716-27FE-4228-AC42-B661B56147A7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B02B5895-03B2-439B-9143-97D5748BE81D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133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50CF-890A-46CB-804B-6ECC0824A863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EC7BEA18-CCAF-4BD3-89C8-AC0C0D5E7BCC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177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0F62-1B90-4D79-AB77-E9288D0E2C78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C4652CFD-EDC0-44D5-9181-06F7282EDA31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221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9D70-EA13-4A4C-BE4D-FED5AF6F8F1A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DDDADB4A-349F-4AC2-A14C-9E863B174AA4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265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E775-9EFF-48DF-BCDB-416F5F1F37E8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4C1B1040-8DF2-41D1-87CE-F6F0CB302AB7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309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3D22-8866-49FF-A258-BFD0EDD47F52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63BD848A-717E-40A8-97E8-6F4297316AE9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353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C5BC-A6A7-450F-A6B4-29086D638FBD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E244EF1B-A74E-467D-8036-DFA416A8615B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1"/>
          <p:cNvSpPr/>
          <p:nvPr/>
        </p:nvSpPr>
        <p:spPr>
          <a:xfrm>
            <a:off x="0" y="0"/>
            <a:ext cx="9144000" cy="3963960"/>
          </a:xfrm>
          <a:prstGeom prst="rect">
            <a:avLst/>
          </a:prstGeom>
          <a:solidFill>
            <a:srgbClr val="0067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2268000" y="1484280"/>
            <a:ext cx="676764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abrizio Mar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SEMINARIO FORMATIVO LES - Postmodernità e complessità: la proposta interdisciplinare del 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inerolo, 21 gennaio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title"/>
          </p:nvPr>
        </p:nvSpPr>
        <p:spPr>
          <a:xfrm>
            <a:off x="2195280" y="333360"/>
            <a:ext cx="684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Il metodo come processo decisionale</a:t>
            </a:r>
            <a:br>
              <a:rPr sz="2700"/>
            </a:br>
            <a:br>
              <a:rPr sz="2700"/>
            </a:br>
            <a:endParaRPr b="1" lang="en-US" sz="2700" spc="-1" strike="noStrike">
              <a:solidFill>
                <a:srgbClr val="822433"/>
              </a:solidFill>
              <a:latin typeface="Arial"/>
            </a:endParaRPr>
          </a:p>
        </p:txBody>
      </p:sp>
      <p:grpSp>
        <p:nvGrpSpPr>
          <p:cNvPr id="670" name="Group 17"/>
          <p:cNvGrpSpPr/>
          <p:nvPr/>
        </p:nvGrpSpPr>
        <p:grpSpPr>
          <a:xfrm>
            <a:off x="0" y="3402000"/>
            <a:ext cx="9145440" cy="3455640"/>
            <a:chOff x="0" y="3402000"/>
            <a:chExt cx="9145440" cy="3455640"/>
          </a:xfrm>
        </p:grpSpPr>
        <p:pic>
          <p:nvPicPr>
            <p:cNvPr id="671" name="Picture 15" descr="Fondino"/>
            <p:cNvPicPr/>
            <p:nvPr/>
          </p:nvPicPr>
          <p:blipFill>
            <a:blip r:embed="rId1"/>
            <a:stretch/>
          </p:blipFill>
          <p:spPr>
            <a:xfrm>
              <a:off x="0" y="3963960"/>
              <a:ext cx="9144000" cy="28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13" descr="logo +marchio"/>
            <p:cNvPicPr/>
            <p:nvPr/>
          </p:nvPicPr>
          <p:blipFill>
            <a:blip r:embed="rId2"/>
            <a:stretch/>
          </p:blipFill>
          <p:spPr>
            <a:xfrm>
              <a:off x="0" y="3966840"/>
              <a:ext cx="9145440" cy="9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16" descr="fascia"/>
            <p:cNvPicPr/>
            <p:nvPr/>
          </p:nvPicPr>
          <p:blipFill>
            <a:blip r:embed="rId3"/>
            <a:stretch/>
          </p:blipFill>
          <p:spPr>
            <a:xfrm>
              <a:off x="2089080" y="3402000"/>
              <a:ext cx="7054920" cy="56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822433"/>
                </a:solidFill>
                <a:latin typeface="Arial"/>
              </a:rPr>
              <a:t>MET-   HODÓS </a:t>
            </a:r>
            <a:endParaRPr b="1" lang="en-US" sz="33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75" name="Segnaposto data 3"/>
          <p:cNvSpPr/>
          <p:nvPr/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21/01/1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Segnaposto piè di pagina 4"/>
          <p:cNvSpPr/>
          <p:nvPr/>
        </p:nvSpPr>
        <p:spPr>
          <a:xfrm>
            <a:off x="121932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ffffff"/>
                </a:solidFill>
                <a:latin typeface="Arial"/>
              </a:rPr>
              <a:t>SEMINARIO FORMATIVO LES - Postmodernità e complessità: la proposta interdisciplinare del L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Segnaposto numero diapositiva 5"/>
          <p:cNvSpPr/>
          <p:nvPr/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6FBD92A5-B7C9-4C72-84E6-F6D1C59926C3}" type="slidenum">
              <a:rPr b="0" lang="it-IT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8" name="Diagramma 3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822433"/>
                </a:solidFill>
                <a:latin typeface="Arial"/>
              </a:rPr>
              <a:t>MET-   HODÓS </a:t>
            </a:r>
            <a:endParaRPr b="1" lang="en-US" sz="33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80" name="Segnaposto data 3"/>
          <p:cNvSpPr/>
          <p:nvPr/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21/01/1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Segnaposto piè di pagina 4"/>
          <p:cNvSpPr/>
          <p:nvPr/>
        </p:nvSpPr>
        <p:spPr>
          <a:xfrm>
            <a:off x="121932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ffffff"/>
                </a:solidFill>
                <a:latin typeface="Arial"/>
              </a:rPr>
              <a:t>SEMINARIO FORMATIVO LES - Postmodernità e complessità: la proposta interdisciplinare del L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Segnaposto numero diapositiva 5"/>
          <p:cNvSpPr/>
          <p:nvPr/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22FB8864-6AE7-40A1-A6A9-5D59C43802FA}" type="slidenum">
              <a:rPr b="0" lang="it-IT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Diagramma 1" descr=""/>
          <p:cNvPicPr/>
          <p:nvPr/>
        </p:nvPicPr>
        <p:blipFill>
          <a:blip r:embed="rId1"/>
          <a:stretch/>
        </p:blipFill>
        <p:spPr>
          <a:xfrm>
            <a:off x="1028880" y="952560"/>
            <a:ext cx="74293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822433"/>
                </a:solidFill>
                <a:latin typeface="Arial"/>
              </a:rPr>
              <a:t>Insegnare metodologia, ovvero a prendere decisioni</a:t>
            </a:r>
            <a:endParaRPr b="1" lang="en-US" sz="33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85" name="Segnaposto data 3"/>
          <p:cNvSpPr/>
          <p:nvPr/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21/01/1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Segnaposto piè di pagina 4"/>
          <p:cNvSpPr/>
          <p:nvPr/>
        </p:nvSpPr>
        <p:spPr>
          <a:xfrm>
            <a:off x="121932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ffffff"/>
                </a:solidFill>
                <a:latin typeface="Arial"/>
              </a:rPr>
              <a:t>SEMINARIO FORMATIVO LES - Postmodernità e complessità: la proposta interdisciplinare del L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Segnaposto numero diapositiva 5"/>
          <p:cNvSpPr/>
          <p:nvPr/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4EF2AD21-12B3-428C-8F41-3752A333BE1F}" type="slidenum">
              <a:rPr b="0" lang="it-IT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8" name="Diagramma 4" descr=""/>
          <p:cNvPicPr/>
          <p:nvPr/>
        </p:nvPicPr>
        <p:blipFill>
          <a:blip r:embed="rId1"/>
          <a:stretch/>
        </p:blipFill>
        <p:spPr>
          <a:xfrm>
            <a:off x="1498680" y="1371600"/>
            <a:ext cx="61974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6:13:10Z</dcterms:created>
  <dc:creator>- -</dc:creator>
  <dc:description/>
  <dc:language>en-US</dc:language>
  <cp:lastModifiedBy>Fabrizio Martire</cp:lastModifiedBy>
  <dcterms:modified xsi:type="dcterms:W3CDTF">2019-01-21T08:18:23Z</dcterms:modified>
  <cp:revision>92</cp:revision>
  <dc:subject/>
  <dc:title>Presentazione di PowerPoint</dc:title>
</cp:coreProperties>
</file>